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332-C6BF-4057-9857-67F23BA9D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8351-2BE4-43D4-8D37-11538C90E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291-68F1-4E8C-B39A-2904193DA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2840-D569-4B3A-80DF-255C4A6AB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8F9-ABEC-4E1F-AC25-349FA158E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DB6-F291-4306-A409-AFEFD2C16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336-6FE6-482C-A2C4-DFB342DFE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705-2BE1-419A-823B-ACDC5787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31C-65CC-47CC-9BE3-FD16DA91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39E-9858-4988-8CD6-7E8A37C0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E04-C0D2-49A4-8CAE-0DAA01B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AA1-68E6-488E-AC2B-B4AB35D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B48-9255-4C85-B9E7-F7C035B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6E6-F2CC-48C1-82F0-4081B11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0EC-06CC-4B38-8CB9-A0DE44C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90D-253C-4524-8D55-F17B8AE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BD5-7991-4562-BE83-C4BC364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582-BE75-431E-AAF8-E901466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FDC-AD06-4220-A0BA-DC7D5CA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D4F-72B8-441D-8B25-FF689B61A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blind spot occurs at the optic nerve, because no photoreceptors are located at the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006003.jpg"/>
            <p:cNvPicPr/>
            <p:nvPr/>
          </p:nvPicPr>
          <p:blipFill>
            <a:blip r:embed="rId1"/>
            <a:stretch/>
          </p:blipFill>
          <p:spPr>
            <a:xfrm>
              <a:off x="2133360" y="2438280"/>
              <a:ext cx="5410440" cy="36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would you expect the blind spot to occur and wh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006003.jpg"/>
            <p:cNvPicPr/>
            <p:nvPr/>
          </p:nvPicPr>
          <p:blipFill>
            <a:blip r:embed="rId2"/>
            <a:stretch/>
          </p:blipFill>
          <p:spPr>
            <a:xfrm>
              <a:off x="1143000" y="2438280"/>
              <a:ext cx="5410440" cy="361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8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33526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mage most likely occurred at the optic tract or in the visual cortex in the left hemisphere (as indicated by yellow ov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06007.jpg"/>
            <p:cNvPicPr/>
            <p:nvPr/>
          </p:nvPicPr>
          <p:blipFill>
            <a:blip r:embed="rId1"/>
            <a:srcRect l="51004" t="0" r="0" b="4141"/>
            <a:stretch/>
          </p:blipFill>
          <p:spPr>
            <a:xfrm>
              <a:off x="4699080" y="761760"/>
              <a:ext cx="345456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Oval 6"/>
            <p:cNvSpPr/>
            <p:nvPr/>
          </p:nvSpPr>
          <p:spPr>
            <a:xfrm rot="1981800">
              <a:off x="6171840" y="3885840"/>
              <a:ext cx="457200" cy="2286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7"/>
            <p:cNvSpPr/>
            <p:nvPr/>
          </p:nvSpPr>
          <p:spPr>
            <a:xfrm flipH="1" rot="18775200">
              <a:off x="5907960" y="4880160"/>
              <a:ext cx="840960" cy="47916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9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5" name="Rectangle 10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914400" y="685800"/>
              <a:ext cx="33526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atient reports neglect of her right visual field.  Where might damage have occurre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006007.jpg"/>
            <p:cNvPicPr/>
            <p:nvPr/>
          </p:nvPicPr>
          <p:blipFill>
            <a:blip r:embed="rId2"/>
            <a:srcRect l="51004" t="0" r="0" b="4141"/>
            <a:stretch/>
          </p:blipFill>
          <p:spPr>
            <a:xfrm>
              <a:off x="4699080" y="761760"/>
              <a:ext cx="3454560" cy="530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914400" y="76176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arly visual areas respond to simple features, and moving along the visual processing stream shows areas responding to more complex shapes and object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6" descr="006010.JPG"/>
            <p:cNvPicPr/>
            <p:nvPr/>
          </p:nvPicPr>
          <p:blipFill>
            <a:blip r:embed="rId1"/>
            <a:srcRect l="0" t="0" r="-907" b="3846"/>
            <a:stretch/>
          </p:blipFill>
          <p:spPr>
            <a:xfrm>
              <a:off x="2057400" y="2361960"/>
              <a:ext cx="5024520" cy="373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3" name="Rectangle 1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914400" y="685800"/>
              <a:ext cx="7315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ing the complexity of images to be processed would follow what pattern in the brain regions involving processing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6" descr="006010.JPG"/>
            <p:cNvPicPr/>
            <p:nvPr/>
          </p:nvPicPr>
          <p:blipFill>
            <a:blip r:embed="rId2"/>
            <a:srcRect l="0" t="0" r="20003" b="3846"/>
            <a:stretch/>
          </p:blipFill>
          <p:spPr>
            <a:xfrm>
              <a:off x="2209680" y="2233440"/>
              <a:ext cx="4038480" cy="378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orsal pathw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" descr="006012.jpg"/>
            <p:cNvPicPr/>
            <p:nvPr/>
          </p:nvPicPr>
          <p:blipFill>
            <a:blip r:embed="rId1"/>
            <a:stretch/>
          </p:blipFill>
          <p:spPr>
            <a:xfrm>
              <a:off x="2666880" y="2666880"/>
              <a:ext cx="4876920" cy="32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1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athway from the occipital lobe to the parietal lobe  would be involved in processing the location of an object.  This is also known as wha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7" descr="005004_Edited.JPG"/>
            <p:cNvPicPr/>
            <p:nvPr/>
          </p:nvPicPr>
          <p:blipFill>
            <a:blip r:embed="rId2"/>
            <a:srcRect l="10872" t="23784" r="9846" b="3090"/>
            <a:stretch/>
          </p:blipFill>
          <p:spPr>
            <a:xfrm>
              <a:off x="2361960" y="2452680"/>
              <a:ext cx="5181840" cy="356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iddle-temporal (MT) area is most likely to be damaged. This area is important for motion percep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Content Placeholder 3" descr="006017.jpg"/>
            <p:cNvPicPr/>
            <p:nvPr/>
          </p:nvPicPr>
          <p:blipFill>
            <a:blip r:embed="rId1"/>
            <a:srcRect l="0" t="0" r="-2318" b="59665"/>
            <a:stretch/>
          </p:blipFill>
          <p:spPr>
            <a:xfrm>
              <a:off x="1066680" y="4114800"/>
              <a:ext cx="464832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4800600" y="2286000"/>
              <a:ext cx="3276720" cy="21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90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914400" y="685800"/>
              <a:ext cx="7315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dividual that is unable to process motion perception would be expected to have damage to which brain area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2" descr=""/>
            <p:cNvPicPr/>
            <p:nvPr/>
          </p:nvPicPr>
          <p:blipFill>
            <a:blip r:embed="rId3"/>
            <a:stretch/>
          </p:blipFill>
          <p:spPr>
            <a:xfrm>
              <a:off x="2133360" y="2438280"/>
              <a:ext cx="511344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01:31Z</dcterms:created>
  <dc:creator>Stefanie Drew</dc:creator>
  <dc:description/>
  <dc:language>en-US</dc:language>
  <cp:lastModifiedBy>Stefanie Drew</cp:lastModifiedBy>
  <dcterms:modified xsi:type="dcterms:W3CDTF">2009-02-11T21:12:28Z</dcterms:modified>
  <cp:revision>7</cp:revision>
  <dc:subject/>
  <dc:title>Slide 1</dc:title>
</cp:coreProperties>
</file>