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9B1-666A-4170-8893-C06F618D4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57BE-4426-4BA5-998B-1E6A5C550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2A2-1DD1-40FB-A409-C33665EF3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A643-E294-41B1-BA84-932F56DB5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5E9-71CE-4F2D-A46D-ACD4C3FD0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6487-345A-459F-8736-1B03E6AE9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3D43-0890-4AC1-A6AA-1F5195601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CAC-7347-4970-83AE-6B29EC13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684-2B76-4764-BDA8-3532FD3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F09-2A4F-4E1B-BA6C-2420C957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F9C-9FA5-440C-B2A0-72F325EC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41D-8428-44A2-92E2-E9B42CA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CA2-1BC8-468F-BEF4-F9B2295A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4F1-9B61-42DE-9EC6-40AE111E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FDD-C2CB-4D7D-93BA-522F54E5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2FD-B329-4D23-8EE9-24554EFD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A5C-9E5F-4740-AE38-36C5933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CC4-7565-4B2E-BDDA-E6207D1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232-8EA8-412E-A37D-0B9F8CE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FE9-B97D-4E15-BDF1-D31098DAD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-Flashcards for 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1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914400" y="685800"/>
              <a:ext cx="7315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des can be placed in neurons in the frontal eye field in macaque monkeys, which controls voluntary eye movements.  When the monkey pays attention to a stimulus, an eye movement, or saccade, is made to the stimul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5" descr="004017.jpg"/>
            <p:cNvPicPr/>
            <p:nvPr/>
          </p:nvPicPr>
          <p:blipFill>
            <a:blip r:embed="rId1"/>
            <a:stretch/>
          </p:blipFill>
          <p:spPr>
            <a:xfrm>
              <a:off x="2361960" y="3429000"/>
              <a:ext cx="4419720" cy="26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5" name="Rectangle 9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914400" y="685800"/>
              <a:ext cx="73152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es a single neuron reading in the frontal eye field (FEF) relate to atten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5" descr="004017.jpg"/>
            <p:cNvPicPr/>
            <p:nvPr/>
          </p:nvPicPr>
          <p:blipFill>
            <a:blip r:embed="rId2"/>
            <a:srcRect l="0" t="33230" r="61001" b="21488"/>
            <a:stretch/>
          </p:blipFill>
          <p:spPr>
            <a:xfrm>
              <a:off x="2133360" y="2666880"/>
              <a:ext cx="4800600" cy="33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59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914400" y="685800"/>
              <a:ext cx="731520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embering of conscious memories evokes much higher ER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004024.jpg"/>
            <p:cNvPicPr/>
            <p:nvPr/>
          </p:nvPicPr>
          <p:blipFill>
            <a:blip r:embed="rId1"/>
            <a:stretch/>
          </p:blipFill>
          <p:spPr>
            <a:xfrm>
              <a:off x="2361960" y="2133360"/>
              <a:ext cx="4724280" cy="389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3" name="Rectangle 7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914400" y="685800"/>
              <a:ext cx="731520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erms of large cortical regions, how does “the feeling of knowing” a memory differ from explicit memory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5" descr="004024.jpg"/>
            <p:cNvPicPr/>
            <p:nvPr/>
          </p:nvPicPr>
          <p:blipFill>
            <a:blip r:embed="rId2"/>
            <a:stretch/>
          </p:blipFill>
          <p:spPr>
            <a:xfrm>
              <a:off x="2361960" y="2133360"/>
              <a:ext cx="4724280" cy="389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6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914400" y="68580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dip illustrates the loss of immediately available oxygen, before an increase in nutrients is brought in blood flow to the are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" descr="004037.jpg"/>
            <p:cNvPicPr/>
            <p:nvPr/>
          </p:nvPicPr>
          <p:blipFill>
            <a:blip r:embed="rId1"/>
            <a:srcRect l="0" t="0" r="0" b="1381"/>
            <a:stretch/>
          </p:blipFill>
          <p:spPr>
            <a:xfrm>
              <a:off x="1853640" y="2209680"/>
              <a:ext cx="5461560" cy="385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5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grpSp>
          <p:nvGrpSpPr>
            <p:cNvPr id="71" name="Group 9"/>
            <p:cNvGrpSpPr/>
            <p:nvPr/>
          </p:nvGrpSpPr>
          <p:grpSpPr>
            <a:xfrm>
              <a:off x="914400" y="685800"/>
              <a:ext cx="7315200" cy="5486400"/>
              <a:chOff x="914400" y="685800"/>
              <a:chExt cx="7315200" cy="5486400"/>
            </a:xfrm>
          </p:grpSpPr>
          <p:sp>
            <p:nvSpPr>
              <p:cNvPr id="72" name="Rectangle 8"/>
              <p:cNvSpPr/>
              <p:nvPr/>
            </p:nvSpPr>
            <p:spPr>
              <a:xfrm>
                <a:off x="914400" y="685800"/>
                <a:ext cx="7315200" cy="5486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9"/>
              <p:cNvSpPr/>
              <p:nvPr/>
            </p:nvSpPr>
            <p:spPr>
              <a:xfrm>
                <a:off x="914400" y="685800"/>
                <a:ext cx="7315200" cy="14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y is there an initial dip when there is an increase of neuronal firing?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Picture 5" descr="004037.jpg"/>
              <p:cNvPicPr/>
              <p:nvPr/>
            </p:nvPicPr>
            <p:blipFill>
              <a:blip r:embed="rId2"/>
              <a:srcRect l="4105" t="0" r="6666" b="42626"/>
              <a:stretch/>
            </p:blipFill>
            <p:spPr>
              <a:xfrm>
                <a:off x="1295280" y="2438280"/>
                <a:ext cx="6629400" cy="304812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75" name="Straight Arrow Connector 7"/>
            <p:cNvCxnSpPr/>
            <p:nvPr/>
          </p:nvCxnSpPr>
          <p:spPr>
            <a:xfrm flipV="1">
              <a:off x="3123000" y="5112720"/>
              <a:ext cx="229320" cy="6102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77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914400" y="1447560"/>
              <a:ext cx="7315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ball is conscious visual input while the face is unconscious visual input.  This is indicated by the increased neuronal response indicated below the green (conscious) and purple (unconscious) bar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5" descr="004014.jpg"/>
            <p:cNvPicPr/>
            <p:nvPr/>
          </p:nvPicPr>
          <p:blipFill>
            <a:blip r:embed="rId1"/>
            <a:srcRect l="0" t="0" r="0" b="50893"/>
            <a:stretch/>
          </p:blipFill>
          <p:spPr>
            <a:xfrm>
              <a:off x="1066680" y="3276720"/>
              <a:ext cx="70927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1" name="Rectangle 6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914400" y="1218960"/>
              <a:ext cx="7315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w do the face  and ball responses relate to consciousnes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5" descr="004014.jpg"/>
            <p:cNvPicPr/>
            <p:nvPr/>
          </p:nvPicPr>
          <p:blipFill>
            <a:blip r:embed="rId2"/>
            <a:srcRect l="0" t="0" r="0" b="50893"/>
            <a:stretch/>
          </p:blipFill>
          <p:spPr>
            <a:xfrm>
              <a:off x="1066680" y="2514600"/>
              <a:ext cx="709272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5" name="Rectangle 3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914400" y="121896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figure indicates that there is a high sensitivity to cognitive factors, such as hearing one’s own name.  This figure demonstrates that hearing ones own name results in a higher amplitude compared to hearing other na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5" descr="004025.jpg"/>
            <p:cNvPicPr/>
            <p:nvPr/>
          </p:nvPicPr>
          <p:blipFill>
            <a:blip r:embed="rId1"/>
            <a:stretch/>
          </p:blipFill>
          <p:spPr>
            <a:xfrm>
              <a:off x="2438280" y="3370680"/>
              <a:ext cx="4343400" cy="27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6"/>
          <p:cNvGrpSpPr/>
          <p:nvPr/>
        </p:nvGrpSpPr>
        <p:grpSpPr>
          <a:xfrm>
            <a:off x="914400" y="685800"/>
            <a:ext cx="7315200" cy="5486400"/>
            <a:chOff x="914400" y="685800"/>
            <a:chExt cx="7315200" cy="5486400"/>
          </a:xfrm>
        </p:grpSpPr>
        <p:sp>
          <p:nvSpPr>
            <p:cNvPr id="89" name="Rectangle 6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914400" y="68580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does this figure suggest about cognition and evoked potential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" descr="004025.jpg"/>
            <p:cNvPicPr/>
            <p:nvPr/>
          </p:nvPicPr>
          <p:blipFill>
            <a:blip r:embed="rId2"/>
            <a:stretch/>
          </p:blipFill>
          <p:spPr>
            <a:xfrm>
              <a:off x="1295280" y="2133360"/>
              <a:ext cx="6400800" cy="401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4:43:49Z</dcterms:created>
  <dc:creator>Stefanie Drew</dc:creator>
  <dc:description/>
  <dc:language>en-US</dc:language>
  <cp:lastModifiedBy>Stefanie Drew</cp:lastModifiedBy>
  <dcterms:modified xsi:type="dcterms:W3CDTF">2009-02-11T20:19:00Z</dcterms:modified>
  <cp:revision>5</cp:revision>
  <dc:subject/>
  <dc:title>Slide 1</dc:title>
</cp:coreProperties>
</file>