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1F96-C91A-45E0-BB52-17F235780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EA87-E389-4CFC-ACDE-0B343D5BC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1B07-B87C-4E8F-9364-702FE46A4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FBD0-EE3F-44B6-B422-D914B587D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46DD-100C-4E76-B067-347A01BB5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3F4B-A6E1-4424-B11B-33D266B29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8843-A04B-4CA2-B187-550BD0B5B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4BC-6ADF-4558-A9C8-340C933D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588-BA28-4D48-9093-34FE0CB7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986-592B-4F3F-BB31-D6178720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D2A-D9CE-4739-ADAF-732E20BA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6AC-4C7B-4F51-9D9B-B13E0EA4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F65-9D5B-475D-983C-5F680F1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456-813F-463E-AEC6-B1F9316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9A0-CA7B-447F-ADFE-6DD0D8FF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3D3-E1D7-442C-9BEE-1F5FD386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9A5-7AFF-42F3-A65B-2B015756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AF9-2C02-4024-AFC5-446F8559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11A-FA03-48BE-85F2-8B40E7E9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7C16-C9E4-4D32-9D43-E6867E0EF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-Flashcards for Chapter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1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th glial cells and neurons come from the same stem cell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5" descr="015008.jpg"/>
            <p:cNvPicPr/>
            <p:nvPr/>
          </p:nvPicPr>
          <p:blipFill>
            <a:blip r:embed="rId1"/>
            <a:stretch/>
          </p:blipFill>
          <p:spPr>
            <a:xfrm>
              <a:off x="2666880" y="1962000"/>
              <a:ext cx="4724280" cy="413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5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d on this figure, how do glial and neural cells relate to one another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5" descr="015008.jpg"/>
            <p:cNvPicPr/>
            <p:nvPr/>
          </p:nvPicPr>
          <p:blipFill>
            <a:blip r:embed="rId2"/>
            <a:stretch/>
          </p:blipFill>
          <p:spPr>
            <a:xfrm>
              <a:off x="2666880" y="1962000"/>
              <a:ext cx="4724280" cy="413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9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914400" y="685800"/>
              <a:ext cx="36576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" descr="015009.jpg"/>
            <p:cNvPicPr/>
            <p:nvPr/>
          </p:nvPicPr>
          <p:blipFill>
            <a:blip r:embed="rId1"/>
            <a:srcRect l="56475" t="0" r="586" b="2622"/>
            <a:stretch/>
          </p:blipFill>
          <p:spPr>
            <a:xfrm>
              <a:off x="4952880" y="761760"/>
              <a:ext cx="3124080" cy="52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5"/>
            <p:cNvSpPr/>
            <p:nvPr/>
          </p:nvSpPr>
          <p:spPr>
            <a:xfrm>
              <a:off x="1066680" y="685800"/>
              <a:ext cx="36576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indicated by the arrows, a new neuron (magenta) along radial glial fibers to form the cortical plate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4" name="Rectangle 8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914400" y="685800"/>
              <a:ext cx="36576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ly generated neurons migrate along radial glial fibers to form the cortical plate.  Where in this figure would this occur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6" descr="015009_Edited.jpg"/>
            <p:cNvPicPr/>
            <p:nvPr/>
          </p:nvPicPr>
          <p:blipFill>
            <a:blip r:embed="rId2"/>
            <a:srcRect l="56300" t="0" r="1039" b="1414"/>
            <a:stretch/>
          </p:blipFill>
          <p:spPr>
            <a:xfrm>
              <a:off x="4648320" y="761760"/>
              <a:ext cx="3124080" cy="530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8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 2 yea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6" descr="015015.jpg"/>
            <p:cNvPicPr/>
            <p:nvPr/>
          </p:nvPicPr>
          <p:blipFill>
            <a:blip r:embed="rId1"/>
            <a:stretch/>
          </p:blipFill>
          <p:spPr>
            <a:xfrm>
              <a:off x="1218960" y="2286000"/>
              <a:ext cx="6858000" cy="37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2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what age is the development of sensorimotor cortex completed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015015.jpg"/>
            <p:cNvPicPr/>
            <p:nvPr/>
          </p:nvPicPr>
          <p:blipFill>
            <a:blip r:embed="rId2"/>
            <a:stretch/>
          </p:blipFill>
          <p:spPr>
            <a:xfrm>
              <a:off x="1143000" y="2286000"/>
              <a:ext cx="6858000" cy="378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6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impossible case, the flap rotates through the object.  Infants viewing this stimuli would appear to be surprised, as indicated by longer viewing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3046320"/>
              <a:ext cx="6553440" cy="12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0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w would you expect an infant’s response to the third panel differ  from the response to the first two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2" descr=""/>
            <p:cNvPicPr/>
            <p:nvPr/>
          </p:nvPicPr>
          <p:blipFill>
            <a:blip r:embed="rId2"/>
            <a:stretch/>
          </p:blipFill>
          <p:spPr>
            <a:xfrm>
              <a:off x="1295280" y="3046320"/>
              <a:ext cx="6553440" cy="126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4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ants appear to track face further than other stimuli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015023.jpg"/>
            <p:cNvPicPr/>
            <p:nvPr/>
          </p:nvPicPr>
          <p:blipFill>
            <a:blip r:embed="rId1"/>
            <a:stretch/>
          </p:blipFill>
          <p:spPr>
            <a:xfrm>
              <a:off x="1600200" y="2039760"/>
              <a:ext cx="5943600" cy="405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8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at can be determined about tracking patterns in infants based on this graph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6" descr="015023.jpg"/>
            <p:cNvPicPr/>
            <p:nvPr/>
          </p:nvPicPr>
          <p:blipFill>
            <a:blip r:embed="rId2"/>
            <a:stretch/>
          </p:blipFill>
          <p:spPr>
            <a:xfrm>
              <a:off x="1600200" y="2039760"/>
              <a:ext cx="5943600" cy="405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01:31Z</dcterms:created>
  <dc:creator>Stefanie Drew</dc:creator>
  <dc:description/>
  <dc:language>en-US</dc:language>
  <cp:lastModifiedBy>Stefanie Drew</cp:lastModifiedBy>
  <dcterms:modified xsi:type="dcterms:W3CDTF">2009-02-12T19:42:18Z</dcterms:modified>
  <cp:revision>13</cp:revision>
  <dc:subject/>
  <dc:title>Slide 1</dc:title>
</cp:coreProperties>
</file>