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D836-378B-4D2C-8BF1-8C331232B8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8057-ECBE-4EC5-B6BD-268B7E3FAA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D6C2-43A2-4F21-9080-5B8C7921E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FA1C-30C9-42F3-A04A-C8C59B6D0F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967F-509C-4BF4-9E6E-20E3CA11F6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AAD8-A5E8-46F5-BAC3-E86D0583B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B113-2AD6-46FE-B260-0A74455018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F35D-D741-4337-A5DC-E4D054506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5D86-C019-4924-A877-CC0A25EC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BEC-E020-47EE-A460-36C66D93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6627-7D5B-491F-8289-5A29E846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2186-BA4D-479A-8721-57826A67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C851-9B32-4708-8ED8-81993B3D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DA47-4947-442C-B5AC-3901FB9E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A1C3-BBA2-4256-BC55-14A7143D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05AD-3183-40F4-9967-9DF8BEBE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17A-38F1-44DF-B23E-C1131CC9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1CDD-A2BE-4F4B-9B2D-F6703691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58B7-38AE-4619-B1AD-DA19F063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8DD2-2B2A-4330-93AD-8781CAC5C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-Flashcards for Chapter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9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51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914400" y="685800"/>
              <a:ext cx="243828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anic System responds to separation of young animals from their caregiver by activating crying and separation call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Content Placeholder 3" descr="013003.JPG"/>
            <p:cNvPicPr/>
            <p:nvPr/>
          </p:nvPicPr>
          <p:blipFill>
            <a:blip r:embed="rId1"/>
            <a:stretch/>
          </p:blipFill>
          <p:spPr>
            <a:xfrm>
              <a:off x="3505320" y="1066680"/>
              <a:ext cx="4618080" cy="452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10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55" name="Rectangle 11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2"/>
            <p:cNvSpPr/>
            <p:nvPr/>
          </p:nvSpPr>
          <p:spPr>
            <a:xfrm>
              <a:off x="914400" y="685800"/>
              <a:ext cx="243828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parating a rat pup from its mother would involve which emotion system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Content Placeholder 3" descr="013003.JPG"/>
            <p:cNvPicPr/>
            <p:nvPr/>
          </p:nvPicPr>
          <p:blipFill>
            <a:blip r:embed="rId2"/>
            <a:stretch/>
          </p:blipFill>
          <p:spPr>
            <a:xfrm>
              <a:off x="3505320" y="1066680"/>
              <a:ext cx="4618080" cy="4525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5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59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4"/>
            <p:cNvSpPr/>
            <p:nvPr/>
          </p:nvSpPr>
          <p:spPr>
            <a:xfrm>
              <a:off x="914400" y="685800"/>
              <a:ext cx="731520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efferent pathwa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5" descr="013006.jpg"/>
            <p:cNvPicPr/>
            <p:nvPr/>
          </p:nvPicPr>
          <p:blipFill>
            <a:blip r:embed="rId1"/>
            <a:stretch/>
          </p:blipFill>
          <p:spPr>
            <a:xfrm>
              <a:off x="1904760" y="2743200"/>
              <a:ext cx="5043600" cy="311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Group 6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63" name="Rectangle 7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914400" y="685800"/>
              <a:ext cx="731520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edback signals sent to the thalamus would involve which pathway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5" descr="013006.jpg"/>
            <p:cNvPicPr/>
            <p:nvPr/>
          </p:nvPicPr>
          <p:blipFill>
            <a:blip r:embed="rId2"/>
            <a:stretch/>
          </p:blipFill>
          <p:spPr>
            <a:xfrm>
              <a:off x="1904760" y="2743200"/>
              <a:ext cx="5043600" cy="311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5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67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914400" y="685800"/>
              <a:ext cx="243828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“low road” is a fast pathway that is capable of low spatial resolution of stimuli.  The “high road” allows complex, contextualized processing of stimuli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6" descr="013008.JPG"/>
            <p:cNvPicPr/>
            <p:nvPr/>
          </p:nvPicPr>
          <p:blipFill>
            <a:blip r:embed="rId1"/>
            <a:stretch/>
          </p:blipFill>
          <p:spPr>
            <a:xfrm>
              <a:off x="3422520" y="1218960"/>
              <a:ext cx="4730760" cy="396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oup 6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71" name="Rectangle 7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914400" y="685800"/>
              <a:ext cx="243828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ich pathway to the amygdala incorporates personal decision making processes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Picture 6" descr="013008.JPG"/>
            <p:cNvPicPr/>
            <p:nvPr/>
          </p:nvPicPr>
          <p:blipFill>
            <a:blip r:embed="rId2"/>
            <a:stretch/>
          </p:blipFill>
          <p:spPr>
            <a:xfrm>
              <a:off x="3422520" y="1218960"/>
              <a:ext cx="4730760" cy="396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5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75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4"/>
            <p:cNvSpPr/>
            <p:nvPr/>
          </p:nvSpPr>
          <p:spPr>
            <a:xfrm>
              <a:off x="914400" y="685800"/>
              <a:ext cx="27432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renaline (green pathway) &amp; Cortisol (red pathway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tice that both pathways begin in the amygdala, circulate to the adrenal gland, and feedback to the amygdala and hippocampus after passing through the body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5" descr="013013.jpg"/>
            <p:cNvPicPr/>
            <p:nvPr/>
          </p:nvPicPr>
          <p:blipFill>
            <a:blip r:embed="rId1"/>
            <a:stretch/>
          </p:blipFill>
          <p:spPr>
            <a:xfrm>
              <a:off x="3703680" y="838080"/>
              <a:ext cx="4525920" cy="51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Group 6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79" name="Rectangle 7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8"/>
            <p:cNvSpPr/>
            <p:nvPr/>
          </p:nvSpPr>
          <p:spPr>
            <a:xfrm>
              <a:off x="914400" y="685800"/>
              <a:ext cx="243828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onsolidation of explicit memories involves which hormones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Picture 5" descr="013013.jpg"/>
            <p:cNvPicPr/>
            <p:nvPr/>
          </p:nvPicPr>
          <p:blipFill>
            <a:blip r:embed="rId2"/>
            <a:stretch/>
          </p:blipFill>
          <p:spPr>
            <a:xfrm>
              <a:off x="3505320" y="838080"/>
              <a:ext cx="4525920" cy="518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5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83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"/>
            <p:cNvSpPr/>
            <p:nvPr/>
          </p:nvSpPr>
          <p:spPr>
            <a:xfrm>
              <a:off x="914400" y="685800"/>
              <a:ext cx="73152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ntral tegmentum and amygdala are involved in the wanting pathway (in yellow), but not the liking pathway (in green)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Picture 6" descr="013019.jpg"/>
            <p:cNvPicPr/>
            <p:nvPr/>
          </p:nvPicPr>
          <p:blipFill>
            <a:blip r:embed="rId1"/>
            <a:stretch/>
          </p:blipFill>
          <p:spPr>
            <a:xfrm>
              <a:off x="1523880" y="2590920"/>
              <a:ext cx="6172200" cy="346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Group 6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87" name="Rectangle 7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914400" y="685800"/>
              <a:ext cx="73152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w does the “liking” pathway differ from the “wanting” pathway in terms of brain areas recruited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6" descr="013019.jpg"/>
            <p:cNvPicPr/>
            <p:nvPr/>
          </p:nvPicPr>
          <p:blipFill>
            <a:blip r:embed="rId2"/>
            <a:stretch/>
          </p:blipFill>
          <p:spPr>
            <a:xfrm>
              <a:off x="1523880" y="2590920"/>
              <a:ext cx="6172200" cy="3463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20:01:31Z</dcterms:created>
  <dc:creator>Stefanie Drew</dc:creator>
  <dc:description/>
  <dc:language>en-US</dc:language>
  <cp:lastModifiedBy>Stefanie Drew</cp:lastModifiedBy>
  <dcterms:modified xsi:type="dcterms:W3CDTF">2009-02-12T19:34:24Z</dcterms:modified>
  <cp:revision>11</cp:revision>
  <dc:subject/>
  <dc:title>Slide 1</dc:title>
</cp:coreProperties>
</file>