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FDD-74BC-435B-B878-A4E491879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042-33D9-4303-929B-E8B29F516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7427-AA3C-4567-AC6D-0E4F484D9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1A9D-50B7-4AAB-9271-838DF06BC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E0A-2A48-48F5-B930-FA3E8697E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0E4F-FE0F-42A2-A941-FCE098B0A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D880-2B79-4C62-BFE1-C66E6D61E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691-2150-4C65-90D0-3DC361CC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EDF-0E3E-4A7F-A41D-4892A33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B75-8D17-4D52-9F2A-63D15561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585-A278-443A-8693-E6080E0A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09D-A525-4098-85A1-5B527A86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CEC-540E-4C5E-85F6-846D087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AB-FCC5-4B39-901F-54651E1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EC3-D0D0-4315-A8A9-4AFFA30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ABA-6C69-4AA5-86C2-F364C9A4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21B-48F3-4C2D-9CE8-41A0CA4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599-2AB5-4856-9201-F448209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7E0-5B51-4485-A538-C180A55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689-9631-4076-95DE-4143A5053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hared Attention Mechanism (SAM) allows this understa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014002.JPG"/>
            <p:cNvPicPr/>
            <p:nvPr/>
          </p:nvPicPr>
          <p:blipFill>
            <a:blip r:embed="rId1"/>
            <a:stretch/>
          </p:blipFill>
          <p:spPr>
            <a:xfrm>
              <a:off x="2209680" y="2438280"/>
              <a:ext cx="4876920" cy="37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understanding that someone shifting the direction of their gaze reflects them ‘looking at something’ involves which part of this diagram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7" descr="014002.JPG"/>
            <p:cNvPicPr/>
            <p:nvPr/>
          </p:nvPicPr>
          <p:blipFill>
            <a:blip r:embed="rId2"/>
            <a:stretch/>
          </p:blipFill>
          <p:spPr>
            <a:xfrm>
              <a:off x="2209680" y="2438280"/>
              <a:ext cx="4876920" cy="372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304812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des measurements allow readings to be taken on the level of single-cell recordings (i.e. from a single neuro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014003.JPG"/>
            <p:cNvPicPr/>
            <p:nvPr/>
          </p:nvPicPr>
          <p:blipFill>
            <a:blip r:embed="rId1"/>
            <a:stretch/>
          </p:blipFill>
          <p:spPr>
            <a:xfrm>
              <a:off x="4572000" y="838080"/>
              <a:ext cx="3124080" cy="527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3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914400" y="685800"/>
              <a:ext cx="304812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type of reading are being taken with the application of an electrod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5" descr="014003.JPG"/>
            <p:cNvPicPr/>
            <p:nvPr/>
          </p:nvPicPr>
          <p:blipFill>
            <a:blip r:embed="rId2"/>
            <a:stretch/>
          </p:blipFill>
          <p:spPr>
            <a:xfrm>
              <a:off x="4572000" y="838080"/>
              <a:ext cx="3124080" cy="527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914400" y="685800"/>
              <a:ext cx="27432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eurons would be expected to not respond, because they appear to respond to the observed act of grasping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7" descr="014005.JPG"/>
            <p:cNvPicPr/>
            <p:nvPr/>
          </p:nvPicPr>
          <p:blipFill>
            <a:blip r:embed="rId1"/>
            <a:stretch/>
          </p:blipFill>
          <p:spPr>
            <a:xfrm>
              <a:off x="3657600" y="838080"/>
              <a:ext cx="4476960" cy="464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1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914400" y="685800"/>
              <a:ext cx="27432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on these images, how would you expect mirror neurons to respond to the food being moved without being grasped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7" descr="014005.JPG"/>
            <p:cNvPicPr/>
            <p:nvPr/>
          </p:nvPicPr>
          <p:blipFill>
            <a:blip r:embed="rId2"/>
            <a:stretch/>
          </p:blipFill>
          <p:spPr>
            <a:xfrm>
              <a:off x="3657600" y="838080"/>
              <a:ext cx="4476960" cy="464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5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914400" y="685800"/>
              <a:ext cx="7315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intention of the action is derived from viewing the context of the mug prior to actio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5" descr="014008.jpg"/>
            <p:cNvPicPr/>
            <p:nvPr/>
          </p:nvPicPr>
          <p:blipFill>
            <a:blip r:embed="rId1"/>
            <a:stretch/>
          </p:blipFill>
          <p:spPr>
            <a:xfrm>
              <a:off x="1523880" y="2138400"/>
              <a:ext cx="5791320" cy="397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9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"/>
            <p:cNvSpPr/>
            <p:nvPr/>
          </p:nvSpPr>
          <p:spPr>
            <a:xfrm>
              <a:off x="914400" y="685800"/>
              <a:ext cx="7315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es intention relate to the context and action in this fig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5" descr="014008.jpg"/>
            <p:cNvPicPr/>
            <p:nvPr/>
          </p:nvPicPr>
          <p:blipFill>
            <a:blip r:embed="rId2"/>
            <a:stretch/>
          </p:blipFill>
          <p:spPr>
            <a:xfrm>
              <a:off x="1523880" y="1981080"/>
              <a:ext cx="6019920" cy="413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3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914400" y="685800"/>
              <a:ext cx="29718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joint attention, there is a focus of attention, the object, whereas in gaze following and individual is just following the line of site of another individual to a point in spac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5" descr="014013.JPG"/>
            <p:cNvPicPr/>
            <p:nvPr/>
          </p:nvPicPr>
          <p:blipFill>
            <a:blip r:embed="rId1"/>
            <a:stretch/>
          </p:blipFill>
          <p:spPr>
            <a:xfrm>
              <a:off x="3782880" y="990360"/>
              <a:ext cx="42670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7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7" name="Rectangle 8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914400" y="685800"/>
              <a:ext cx="2286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 gaze following and joint attention differ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014013.JPG"/>
            <p:cNvPicPr/>
            <p:nvPr/>
          </p:nvPicPr>
          <p:blipFill>
            <a:blip r:embed="rId2"/>
            <a:stretch/>
          </p:blipFill>
          <p:spPr>
            <a:xfrm>
              <a:off x="3276360" y="990360"/>
              <a:ext cx="477360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01:31Z</dcterms:created>
  <dc:creator>Stefanie Drew</dc:creator>
  <dc:description/>
  <dc:language>en-US</dc:language>
  <cp:lastModifiedBy>Stefanie Drew</cp:lastModifiedBy>
  <dcterms:modified xsi:type="dcterms:W3CDTF">2009-02-12T19:38:58Z</dcterms:modified>
  <cp:revision>13</cp:revision>
  <dc:subject/>
  <dc:title>Slide 1</dc:title>
</cp:coreProperties>
</file>