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964E-00F0-4516-BD8E-7D2A557A3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EC5E-AF7D-425E-8CB1-91900524E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0749-F28E-4E06-80A3-4063FA486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23D2-CEAA-4605-AFAB-62743FB99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6F7F-73D7-4700-A558-812E03D6A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5F92-0ECB-4339-89AE-9B829B5E6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3940-D311-4074-8716-B99E4B1FEB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50C9-DF22-4890-B613-922408F0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2F7-9853-4CF6-877C-BBE0755C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AA96-3C9A-4FD9-AAE3-D25D8077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B4FA-C118-4928-9D19-5D882090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FE97-49BD-4A0D-9A6F-3612EA07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54D-B5A0-438F-B4B9-5A5247A7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AAC5-F44F-4B03-B47F-5CD38C13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EBBF-D97D-43A8-9237-0567F807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75D-7E6D-40ED-AA6C-B33BB5C0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BBA0-FB57-4251-8543-470D37F7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C23C-D7A1-42E0-8F44-77FBC9E5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DA2-00B4-4829-8690-BD6B7932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5F71-E348-45F0-B935-B44E8E8C0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-Flashcards for Chapter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5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51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914400" y="685800"/>
              <a:ext cx="7315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efrontal cortex can be divided into the lateral, medial, ventral and front regions.  The lateral division can be further divided into the upper (dorsal) and lower (ventral) halv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5" descr="012001.jpg"/>
            <p:cNvPicPr/>
            <p:nvPr/>
          </p:nvPicPr>
          <p:blipFill>
            <a:blip r:embed="rId1"/>
            <a:stretch/>
          </p:blipFill>
          <p:spPr>
            <a:xfrm>
              <a:off x="1523880" y="2873160"/>
              <a:ext cx="6096240" cy="329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55" name="Rectangle 7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914400" y="685800"/>
              <a:ext cx="73152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at are the four major divisions of the prefrontal cortex and how do they relate to this image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2" descr=""/>
            <p:cNvPicPr/>
            <p:nvPr/>
          </p:nvPicPr>
          <p:blipFill>
            <a:blip r:embed="rId2"/>
            <a:stretch/>
          </p:blipFill>
          <p:spPr>
            <a:xfrm>
              <a:off x="1371600" y="2743200"/>
              <a:ext cx="6705720" cy="331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5"/>
          <p:cNvGrpSpPr/>
          <p:nvPr/>
        </p:nvGrpSpPr>
        <p:grpSpPr>
          <a:xfrm>
            <a:off x="914400" y="685800"/>
            <a:ext cx="7315200" cy="5562720"/>
            <a:chOff x="914400" y="685800"/>
            <a:chExt cx="7315200" cy="5562720"/>
          </a:xfrm>
        </p:grpSpPr>
        <p:sp>
          <p:nvSpPr>
            <p:cNvPr id="59" name="Rectangle 3"/>
            <p:cNvSpPr/>
            <p:nvPr/>
          </p:nvSpPr>
          <p:spPr>
            <a:xfrm>
              <a:off x="914400" y="685800"/>
              <a:ext cx="7315200" cy="5486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4"/>
            <p:cNvSpPr/>
            <p:nvPr/>
          </p:nvSpPr>
          <p:spPr>
            <a:xfrm>
              <a:off x="914400" y="685800"/>
              <a:ext cx="259092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6" descr="012003.jpg"/>
            <p:cNvPicPr/>
            <p:nvPr/>
          </p:nvPicPr>
          <p:blipFill>
            <a:blip r:embed="rId1"/>
            <a:stretch/>
          </p:blipFill>
          <p:spPr>
            <a:xfrm>
              <a:off x="2538360" y="792000"/>
              <a:ext cx="4091040" cy="530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Group 6"/>
          <p:cNvGrpSpPr/>
          <p:nvPr/>
        </p:nvGrpSpPr>
        <p:grpSpPr>
          <a:xfrm>
            <a:off x="914400" y="685800"/>
            <a:ext cx="7315200" cy="5562720"/>
            <a:chOff x="914400" y="685800"/>
            <a:chExt cx="7315200" cy="5562720"/>
          </a:xfrm>
        </p:grpSpPr>
        <p:sp>
          <p:nvSpPr>
            <p:cNvPr id="63" name="Rectangle 7"/>
            <p:cNvSpPr/>
            <p:nvPr/>
          </p:nvSpPr>
          <p:spPr>
            <a:xfrm>
              <a:off x="914400" y="685800"/>
              <a:ext cx="7315200" cy="5486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914400" y="685800"/>
              <a:ext cx="259092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cate where the prefrontal cortex would be involved in this model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3" descr=""/>
            <p:cNvPicPr/>
            <p:nvPr/>
          </p:nvPicPr>
          <p:blipFill>
            <a:blip r:embed="rId2"/>
            <a:stretch/>
          </p:blipFill>
          <p:spPr>
            <a:xfrm>
              <a:off x="4038480" y="761760"/>
              <a:ext cx="4114800" cy="5335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5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67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914400" y="685800"/>
              <a:ext cx="220968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areas that appear dark would show less activity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5" descr="012010.JPG"/>
            <p:cNvPicPr/>
            <p:nvPr/>
          </p:nvPicPr>
          <p:blipFill>
            <a:blip r:embed="rId1"/>
            <a:srcRect l="0" t="0" r="0" b="2778"/>
            <a:stretch/>
          </p:blipFill>
          <p:spPr>
            <a:xfrm>
              <a:off x="3151080" y="761760"/>
              <a:ext cx="5002200" cy="533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71" name="Rectangle 7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914400" y="685800"/>
              <a:ext cx="220968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ed on this figure, what would you expect to see when a novel task becomes practiced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Picture 5" descr="012010.JPG"/>
            <p:cNvPicPr/>
            <p:nvPr/>
          </p:nvPicPr>
          <p:blipFill>
            <a:blip r:embed="rId2"/>
            <a:srcRect l="0" t="0" r="0" b="2778"/>
            <a:stretch/>
          </p:blipFill>
          <p:spPr>
            <a:xfrm>
              <a:off x="3151080" y="761760"/>
              <a:ext cx="5002200" cy="533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5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75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4"/>
            <p:cNvSpPr/>
            <p:nvPr/>
          </p:nvSpPr>
          <p:spPr>
            <a:xfrm>
              <a:off x="914400" y="685800"/>
              <a:ext cx="220968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orange oval represents a network that integrates and resolves conflicting input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6" descr="012015.JPG"/>
            <p:cNvPicPr/>
            <p:nvPr/>
          </p:nvPicPr>
          <p:blipFill>
            <a:blip r:embed="rId1"/>
            <a:srcRect l="0" t="0" r="0" b="1388"/>
            <a:stretch/>
          </p:blipFill>
          <p:spPr>
            <a:xfrm>
              <a:off x="3581280" y="792000"/>
              <a:ext cx="4311720" cy="530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79" name="Rectangle 7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8"/>
            <p:cNvSpPr/>
            <p:nvPr/>
          </p:nvSpPr>
          <p:spPr>
            <a:xfrm>
              <a:off x="914400" y="685800"/>
              <a:ext cx="236196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this model of the Stroop task (such as saying the color of the ink for the word RED printed in blue ink) what does the orange oval represent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6" descr="012015.JPG"/>
            <p:cNvPicPr/>
            <p:nvPr/>
          </p:nvPicPr>
          <p:blipFill>
            <a:blip r:embed="rId2"/>
            <a:srcRect l="0" t="0" r="0" b="1388"/>
            <a:stretch/>
          </p:blipFill>
          <p:spPr>
            <a:xfrm>
              <a:off x="3581280" y="792000"/>
              <a:ext cx="4311720" cy="530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5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83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"/>
            <p:cNvSpPr/>
            <p:nvPr/>
          </p:nvSpPr>
          <p:spPr>
            <a:xfrm>
              <a:off x="914400" y="685800"/>
              <a:ext cx="7315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reticular formation (in the brainstem) and posterior cortex are proposed to be involved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5" descr="012021.JPG"/>
            <p:cNvPicPr/>
            <p:nvPr/>
          </p:nvPicPr>
          <p:blipFill>
            <a:blip r:embed="rId1"/>
            <a:stretch/>
          </p:blipFill>
          <p:spPr>
            <a:xfrm>
              <a:off x="2438280" y="2971800"/>
              <a:ext cx="4811760" cy="292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87" name="Rectangle 7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914400" y="685800"/>
              <a:ext cx="7315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ddition to the frontal lobes, this model of an attentional loop suggests which areas are involved in influencing attentional functions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5" descr="012021.JPG"/>
            <p:cNvPicPr/>
            <p:nvPr/>
          </p:nvPicPr>
          <p:blipFill>
            <a:blip r:embed="rId2"/>
            <a:stretch/>
          </p:blipFill>
          <p:spPr>
            <a:xfrm>
              <a:off x="2438280" y="2971800"/>
              <a:ext cx="4811760" cy="2928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0:01:31Z</dcterms:created>
  <dc:creator>Stefanie Drew</dc:creator>
  <dc:description/>
  <dc:language>en-US</dc:language>
  <cp:lastModifiedBy>Stefanie Drew</cp:lastModifiedBy>
  <dcterms:modified xsi:type="dcterms:W3CDTF">2009-02-12T19:27:55Z</dcterms:modified>
  <cp:revision>10</cp:revision>
  <dc:subject/>
  <dc:title>Slide 1</dc:title>
</cp:coreProperties>
</file>